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D15-FA9E-4BCC-8DC3-3559A3BD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B45-B933-483A-AB1B-28C114A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14707-EB87-4DDC-91C4-57B9A77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CCF86-B923-4687-8993-059676B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CB88D-917A-4CBA-9F0E-63A8E0D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757AE-26CC-45DE-BF61-FEA2719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7FBB-C25F-403C-8FC7-60B7457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5B686-DE4A-4B98-ABC8-41280C4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E1D4-6D8C-4B56-8F3F-52A7AE3A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2889E-79C1-4061-B2D2-AA1B5901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367E0-3667-4DCC-9B75-EE0912AB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F2099-CFBC-4C22-8B23-AF2C601D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FD-F86D-430D-BC48-CB2F7F76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EF1DC-5B8B-4353-921D-64901F3E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7D63F-B549-4115-AA44-1D2A1B66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54F55-7641-4EB1-97EA-DCBCB97B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7DA1-1288-4F71-83E9-F80C68BC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9E99D-25AB-48A3-8C09-8A900229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D714-1F51-492A-8B0F-26A49A0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326E6-AD9B-4879-B498-F35CAEE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D090D-984A-4D15-9409-6AD4CDE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551B-BBC4-479B-8EE6-7ED6E3B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353B0-AD64-483E-A428-960BB88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72E-017E-471D-85B7-8B6D928A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1540C-7FE7-48C3-A7A5-A2B7DF5B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8A0C-0660-4B81-9D08-49C4331C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92EE-0F5C-4CAB-BCC3-9CC0BA0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39E87-6BFB-44B6-AD77-DE89893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2537D-A6C6-4A52-BE72-B92110F5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84F44-D86A-451E-8AF5-509503C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A2D3-B599-47B2-A23D-28FC20C0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5BD3-E64D-4BB4-B8A6-26A9D58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36343-6812-4218-8B32-3B38D97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2B780-3EED-4F65-89BB-BD79A0C0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3DC3-1D00-460D-8D09-548508CC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84850-DD15-429F-9227-35337C2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D7D4B-E150-4ACA-A172-BB76D03F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9F3A-4DC9-4D1C-AE6F-4B6B93B4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20F11-2F2C-4F5D-93B8-0EF7CF15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1C4DD-AFA9-470E-8BD2-9DFEA065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16EE1-4DB8-4FE2-9B67-BD38AEFF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24CB2-F27F-41EB-8538-C7E14487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D7622-AD45-494C-9831-9B53F6B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36C1B-80B4-4A89-929F-8BB3146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6A5B1-441D-4091-929D-B8A351A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529-82F2-41A7-B093-10DC8E20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ADD1B-C6CE-431C-9DD8-95C77106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99F53-8460-41EA-BDAE-79830389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9EF57-6172-43D3-9B52-6844FCF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5A189-6C1B-4797-9C86-78EACAE0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0692-1B8C-4D0D-98AF-9AC0FAB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698-6A4D-4637-8F03-3EB0611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9094-3B31-485A-9520-CEC81A8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B85D-736F-4333-BC32-EAA2E56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E03-732C-48CB-8F44-2E86512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7917-1611-43C4-B073-84A2A8D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B23-0C92-4FCE-9ED7-9F5CA07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094-1FDF-4056-94C3-46256D5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941-C5F7-468E-AE39-27BBB82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CED-790C-4232-9EAF-B145692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9809-19F5-4851-89BC-736FAC45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532D-00AC-49EE-86C7-937B131F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8994-B499-4CC0-AE80-867FED42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B3AE-E69A-46D9-BE2A-CAF6D46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F806-BDC3-4C9C-9FDA-426466F6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0A50-7A63-47D2-8050-6C574EA1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4AF8-8093-4A7E-AF95-770BB62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DD8-11FE-4573-B8AF-743BC424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97CF-A090-48F7-8882-B23709F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BD00-C48B-4A1F-B03C-54B483F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460E-F220-4539-BFC5-F4098EE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C8D8-FBD2-4FAB-AA95-180F71F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4443-5DE8-43C4-A23B-B7B89DC8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8135-E747-4BF8-911F-2ACBEF58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29D1-F616-4CDD-A351-0B8BB5CF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D250-7BC9-4BFD-992B-9ED8B882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D5C7-C883-45A6-91AF-4819127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A068-812E-42F5-ADE6-E74FF5F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1A9-850D-4EFD-A2F7-D404913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3E7C-1EBD-48DA-A171-485D5DB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D1D9-6585-47E5-9331-36B7D5E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07BF-246B-4EB7-85C1-EF82C466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C690-9415-436C-9DE1-D92E4D6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8755-2AA2-413C-B847-B4624D2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017C-90E6-4D78-B74A-D952F4A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1C6B-CD90-45B2-A0E1-F239E815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135A-7DF4-47CB-A5BA-BB003F0B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6569-2A7E-4D25-AFAA-38098034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186C-B03E-42E3-A653-88701F29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A24-C0A4-4F01-85D3-030C6BB5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BD30-30AC-44C9-A432-F57F48A5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786C-E8B6-425B-9F57-BB7BF6E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02A3A-C622-4152-B148-DE9827B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D3BA-EC6B-4CC8-8A92-FEE94E7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C17A-B353-4827-9912-EF9614E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71B5-3626-408E-99AE-8B8C1152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E80E-6727-404A-B839-4E64E946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5D50-CF0E-4B95-99F0-162ACB2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CA4E5-DA9B-4ADB-8F04-608A8C8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760D-5EED-40F3-B11A-FFF6D9B3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AE5-8DF9-4E39-BF5D-37F75AC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926B-8361-45D0-BAC0-AB0CA223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AB49-3235-4DE7-85E2-B09BA42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B03A-DC39-496E-AC50-730FAE9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FB13-91BD-4BF7-9051-5A93F6E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34FD-0209-4943-997D-F6F9F4F2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C70A-5215-420E-8EDC-AE43F667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C06AA-8386-46FE-BA7C-87826EB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9011-3717-4786-B75A-56DF94E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7628-EC81-4043-B5AD-D0E958AD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740F-298A-4202-97B8-86F7500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BA7-63B2-4254-9AD5-5182492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2D95-DC6B-47DE-BBF9-2E2F38F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85DD-3E0B-47DE-B6FF-4993976B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F792-2C48-40F0-A974-86812FA3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06D08-B2DD-4838-B044-577CD3D9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E5F00-F727-47E5-AAE4-6253945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2025-0188-4229-B0E5-E52DEAD9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7288-7277-49A7-BCB7-2210ECF9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33E3-2606-4D11-97E4-DF8DAB9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2BEE7-5E75-4A27-A6A6-0493AB3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E962-BB3C-455F-9B7E-A3F9037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03B-4059-43D6-8C00-D329820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295F-2C8A-4D98-BD41-C7AE95D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C73DB-017C-4370-9B04-CD6B047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A2CB0-7DA5-4FC0-9ABB-985F088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0ABCB-E341-4A8D-8702-F8E5B976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7287E-D819-45C5-A8B3-87B3C40A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5FF9-6473-43C8-A73B-2B690AA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850B9-BA8C-4FE8-9CAA-805A4C63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954C-3E82-4EA2-B864-B61DEB5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2EA0D-C128-4DCC-B897-0D1930F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1666-B823-441F-A165-1A8E284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909-B146-47B3-9233-F9D4970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32481-18E0-4C6F-8274-C7BF4C1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24C3-7435-45F7-804A-8E2EE12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22592-E074-4CC0-8E86-576F348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5D0A-6415-40B6-BBA4-1091950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C5C7-823D-41F2-8241-E77F17B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6F44-915E-4D3B-BA5B-47508079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6E09C-65A5-4013-9256-908E15A2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02C34-A6A3-4DAC-B98D-4193B5A4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C9362-3188-459A-9240-2704B593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EA114-CFFE-4A1B-A583-060FFB5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D8E-AE5B-4841-936F-4E6ABE7CE9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AB43-A31B-4D05-A63C-086C1BE301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B7F5-BCCD-444D-B2A9-CAA6444F6F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C18-E590-4560-A908-C3F3CF17C6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B31-92A9-4907-86BF-F8CE49400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634-5D73-434C-8AD3-03C6B4150B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DD1-61B4-412E-B7C1-7FD4C70283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59C-22A7-423E-8375-5AE06D5F42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0083-989C-4977-ABF1-1290D388FF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5EE-E3A8-452D-A59E-A44620F878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0CF-F99E-412B-85C9-ED0F3D9A2A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5B8-B7AC-475B-8DA3-2E640B396D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9 Svit slnka hasne v d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 slnka hasne v dial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adá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my sa všetko halí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Božia m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otcovsky nad nam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ráni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diabla nástrah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okojný sen, P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práci pr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ového dňa úsvit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uzrieť 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radostne sme vst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n rann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ďačne uvíta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plný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raz všetko zotm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ratí s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počuť nám aj vo t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spásn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prijmi nás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dla tej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pre nás chy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ídla vo večn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3:25:08Z</dcterms:modified>
  <cp:revision>62</cp:revision>
  <dc:subject/>
  <dc:title>Je veľký náš Pán, on slávy je Kráľ Nech do všetkých strán  spev vrúcnych znie chvál.</dc:title>
</cp:coreProperties>
</file>